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360" y="-5823000"/>
            <a:ext cx="360" cy="130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46659-6539-4228-8679-69315C0E1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9F4D-6512-4E1A-B0CE-2BBA326C0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4EE9-B0A7-4CDF-8674-C0FF548B7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148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252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080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148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252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4D58-CAD0-4DF9-AE30-3951743ED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B7AD-EADC-4630-A41C-8800009F90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C219-2185-4371-8386-FF9394BCDF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CF4B-852D-47EE-BD9E-5225D913B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F85F-BC90-4BDB-9549-5EBDCC9CE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512F-B3C8-4C55-AF6E-8459A953E8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520" y="-49680"/>
            <a:ext cx="85791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4EB4-EBFF-4132-9756-7788B972D1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5A44-C197-402C-82D3-81E8D6FC9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BFAD-8AA6-44C0-9EFF-A8EC940A8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A6BC-4B2E-44C2-9EA6-3F4DFE554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4887-09D8-482D-B400-886547E40A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605B-0CE9-4337-B844-EE27DD8898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5760-32FB-4E82-986F-91EDB341B5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148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2520" y="137628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080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148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2520" y="4115160"/>
            <a:ext cx="278136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BCA8-9A15-4FB9-B207-C09966C008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B834-C4AC-43A1-A32C-A316C8AA9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36B9-3E55-46BD-8937-3481233E8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0AF1-FB00-44D9-B31F-289923B55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2520" y="-49680"/>
            <a:ext cx="85791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A189-60B8-4B00-B7E4-C9EF02CB4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BAA8-E6B1-49B4-92C2-9D54A193B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411516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806D-BE60-4F29-B5D9-C881B9857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080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376280"/>
            <a:ext cx="421560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0800" y="4115160"/>
            <a:ext cx="8638920" cy="25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ABD3-D54D-490B-89F2-863BAC094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4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2000" y="6400440"/>
            <a:ext cx="1900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B7CA3-FD53-4AE7-B0EA-F7C2EE2D8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40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1641600"/>
            <a:ext cx="9144000" cy="366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2520" y="-49680"/>
            <a:ext cx="85791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80800" y="1376280"/>
            <a:ext cx="863892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54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55920" y="640080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12119B-B8E2-4D9F-947F-0B60256BB0F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7120" y="2571840"/>
            <a:ext cx="842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760" y="1712880"/>
            <a:ext cx="82296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Resultado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2611440"/>
            <a:ext cx="822960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A interação dos professores que já desenvolviam atividades na STE com aqueles que ainda não tinham utilizado a sala neste ano letivo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A utilização de metodologias diferenciadas que contribuam no processo de aprendizagem, através do acesso a sites educativos e do portal do professor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7120" y="2082960"/>
            <a:ext cx="828684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2d2db9"/>
                </a:solidFill>
                <a:latin typeface="Arial"/>
                <a:ea typeface="Times New Roman"/>
              </a:rPr>
              <a:t>Referências Bibliográfic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PIAGET, Jean. </a:t>
            </a:r>
            <a:r>
              <a:rPr b="0" i="1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A psicologia da inteligência, </a:t>
            </a:r>
            <a:r>
              <a:rPr b="0" lang="pt-B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Lisboa, Fundo de Cultura. 196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http://portaldoprofessor.mec.gov.br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atividadeseducativa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somatematica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www.soportugues.com.b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2286000"/>
            <a:ext cx="79297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Escola Estadual Luiz Soares And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Nova Andradina –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Agosto/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288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7120" y="1857240"/>
            <a:ext cx="8501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Professores responsáveis pelo pro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Ismael Silvério Jun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Marcio Redig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Rosimeire da Silva Olive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2880" y="206280"/>
            <a:ext cx="8582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160" y="1857240"/>
            <a:ext cx="864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040" y="1928880"/>
            <a:ext cx="77868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Turno de realização do projet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Matutino e Vespertin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Público Alvo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2d2db9"/>
                </a:solidFill>
                <a:latin typeface="Arial"/>
              </a:rPr>
              <a:t>Professores do 1º ao 5º anos do EF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120" y="1762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2d2db9"/>
                </a:solidFill>
                <a:latin typeface="Arial"/>
              </a:rPr>
              <a:t>Objetivo Ger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4200" y="2500200"/>
            <a:ext cx="8072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2d2db9"/>
                </a:solidFill>
                <a:latin typeface="Arial"/>
              </a:rPr>
              <a:t>    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    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Contribuir de maneira efetiva para o processo de ensino e aprendizagem, através de atividades que busquem a construção do conhecimento de forma coletiva e cooperativa, utilizando de maneira adequada jogos educativos disponíveis na rede mundial de computador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2d2db9"/>
                </a:solidFill>
                <a:latin typeface="Arial"/>
              </a:rPr>
              <a:t>Objetivos específic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2500200"/>
            <a:ext cx="82296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Familiarizar docentes com sites que oferecem jogos educativos disponíveis na rede mundial de computadores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Utilizar jogos educativos como recursos metodológicos que contribuam no ensino e aprendizagem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26"/>
              </a:spcBef>
              <a:buClr>
                <a:srgbClr val="2d2db9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Gerenciar e organizar as atividades desenvolvidas em conjunto com o professor regen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3286080"/>
            <a:ext cx="758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Atividades Educ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Portal do Prof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Só Mate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2d2db9"/>
                </a:solidFill>
                <a:latin typeface="Arial"/>
              </a:rPr>
              <a:t>Só Portuguê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1680" y="200016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2d2db9"/>
                </a:solidFill>
                <a:latin typeface="Arial"/>
              </a:rPr>
              <a:t>Tecnologias utilizad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4680" y="1646280"/>
            <a:ext cx="485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200016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2d2db9"/>
                </a:solidFill>
                <a:latin typeface="Arial"/>
              </a:rPr>
              <a:t>Metodolog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7120" y="2643120"/>
            <a:ext cx="822960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Segundo Piaget (1967), a criança assimila ou interpreta a realidade por meio de uma atividade lúdica. Dessa forma, sugerimos aos professores alguns sites com jogos educativos, nos quais eles selecionaram os mais relevantes a cada disciplina para planejarem aulas seguindo os padrões das  aulas disponibilizadas no Portal do Professo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spcBef>
                <a:spcPts val="726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5712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d2db9"/>
                </a:solidFill>
                <a:latin typeface="Arial"/>
              </a:rPr>
              <a:t>ENSINANDO ATRAVÉS DE JOG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760" y="1857240"/>
            <a:ext cx="785808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2d2db9"/>
                </a:solidFill>
                <a:latin typeface="Arial"/>
              </a:rPr>
              <a:t>O curso teve duração de 10h/a, visando divulgar as atribuições dos professores regentes de acordo com a Resolução SED     n. 2.127 de 05/06/07 e de estimular os mesmos a desenvolverem projetos voltados aos seus componentes curriculares na S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SMAEL NOVO</dc:creator>
  <dc:description/>
  <dc:language>en-US</dc:language>
  <cp:lastModifiedBy>ISMAEL NOVO</cp:lastModifiedBy>
  <cp:revision>0</cp:revision>
  <dc:subject/>
  <dc:title>Slide 1</dc:title>
</cp:coreProperties>
</file>